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4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12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691-15BB-4F07-93A9-C39562CB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C54-909D-45BA-BDEF-F4DCC73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C7B-F7F1-4337-AB48-D46434E2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500-30C5-4E4E-A1C4-ABA61411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7E0-9AD4-42E3-BAC5-75B2AAAE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646-49AD-48CA-B11F-9C5FD3CF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D9D3-D09E-4901-AFA0-47F325AF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CCE9-C7B0-4CF9-87DE-4EC981BC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5E8-F16E-4C01-BB07-D0F456F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3E6-9BC9-4561-A636-B60DB66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BCA3-E2C3-4B83-B4C8-D9D4831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EFB-738B-4E46-B512-82AAB3C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85C1-F23C-4EFC-A811-C64205B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6E1C-41BC-41F2-A72D-71D9FCA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DF6B-0716-492A-92DF-8BD84DC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E5B2-E3E9-4AD2-A134-B4F2B91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45B-7131-4D87-B687-F6A61C89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A06-978E-4F00-9302-B49A646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46F-6A0E-4D79-A61C-1A94663C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8EF-00B8-46A3-85D4-FC73E2E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A7B-D6DC-43E0-AC61-BAEEAB34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562-26E0-4391-A395-FFF196E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75A-C078-45EB-8C9A-7FF755C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805-56E5-4148-9446-43387BBD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604F-89FB-4E58-A51A-C557E2815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AF8B-7D84-46F6-A371-29A61081B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Sj03882140000%5B1%5D.wav" TargetMode="External"/><Relationship Id="rId3" Type="http://schemas.microsoft.com/office/2007/relationships/media" Target="file:///tmp/home/.config/libreoffice/4/user/gallery/MSj0388214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j03883970000%5B1%5D.wav" TargetMode="External"/><Relationship Id="rId3" Type="http://schemas.microsoft.com/office/2007/relationships/media" Target="file:///tmp/home/.config/libreoffice/4/user/gallery/MSj0388397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j00748880000%5B1%5D.wav" TargetMode="External"/><Relationship Id="rId3" Type="http://schemas.microsoft.com/office/2007/relationships/media" Target="file:///tmp/home/.config/libreoffice/4/user/gallery/MSj0074888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Turkey for Thanksgiving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3933720" cy="342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particip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join in doing something with oth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6715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ecor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ake something as pretty as you c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962160" cy="449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7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9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banque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ry special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672080" cy="318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35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3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fla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lame and light briefly and unstead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9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42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7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glimme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unsteady ligh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268720" cy="344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8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whispe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ound like a whisper with a soft, rustling s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792520"/>
            <a:ext cx="4495680" cy="30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sgi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o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iver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mber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Thanksgiving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oliday in Nov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216080" cy="181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1825560" cy="13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2820960" cy="2156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74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ov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 part of the feet of some anim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86200" cy="2581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843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riverbank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 on the side of a river or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181480" cy="34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lumbered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ove along heavily and nois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2762280"/>
            <a:ext cx="4800600" cy="319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mazing Word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i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articip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cor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nqu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l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i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spe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in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at a me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240360" cy="4800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lida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ay when people celebrate something spec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863720" cy="119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705720" y="28954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1812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1:37:30Z</dcterms:created>
  <dc:creator> </dc:creator>
  <dc:description/>
  <dc:language>en-US</dc:language>
  <cp:lastModifiedBy> </cp:lastModifiedBy>
  <dcterms:modified xsi:type="dcterms:W3CDTF">2007-10-29T02:00:40Z</dcterms:modified>
  <cp:revision>2</cp:revision>
  <dc:subject/>
  <dc:title>  A Turkey for Thanksgiving</dc:title>
</cp:coreProperties>
</file>